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86078"/>
        <c:axId val="91264587"/>
      </c:barChart>
      <c:catAx>
        <c:axId val="20386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4587"/>
        <c:crosses val="autoZero"/>
        <c:auto val="1"/>
        <c:lblAlgn val="ctr"/>
        <c:lblOffset val="100"/>
        <c:noMultiLvlLbl val="0"/>
      </c:catAx>
      <c:valAx>
        <c:axId val="91264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6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E83-6FF7-4EC1-9663-902F436A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F5F-A73E-46EF-A6D8-6A200160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A3C-83B8-438B-B09A-5BD698C6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A4D-9F8B-4804-8918-D70D763E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C6C-993B-4BC0-A81B-1196DD7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385-8245-440C-AF70-D0E7AEED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DC8-966A-48F7-A8E6-A278C12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5DB-562D-41CE-BE6F-F62C7A7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70C-8983-4B62-807A-21BAD78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8A0-A172-49AD-9134-1CA56A0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BC5-7DB6-44B3-9F65-89D4444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CE7-3FA0-4AE0-B50E-73A90C4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5657-939B-48F1-BDB1-F3EBE9B18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