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70924"/>
        <c:axId val="69377076"/>
      </c:barChart>
      <c:catAx>
        <c:axId val="44170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7076"/>
        <c:crosses val="autoZero"/>
        <c:auto val="1"/>
        <c:lblAlgn val="ctr"/>
        <c:lblOffset val="100"/>
        <c:noMultiLvlLbl val="0"/>
      </c:catAx>
      <c:valAx>
        <c:axId val="69377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70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7D9-5068-4154-A9F5-B9342ADE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5ED-6CEC-4AAE-AD60-CFB83A9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B18-EC99-464D-A056-B2D2ECFC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E28-1A95-4F06-96A2-381CF66A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91E-E581-462D-BA5F-93073AC2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310-1E54-435F-A72B-1748E11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6EC-DD02-431F-A224-BF20AE2F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E3B-6E2D-466F-8EBA-47208C3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F4E-3BF9-45D5-BF27-001DC38C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E2C-9BA8-4096-AC52-D3CA7CC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8AE-3361-479B-BC37-32A648AF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011-97B0-4CB9-9B28-4B900F3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5D997-D401-4E80-B1C7-5343EC9864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