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27244"/>
        <c:axId val="81272817"/>
      </c:barChart>
      <c:catAx>
        <c:axId val="60327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72817"/>
        <c:crosses val="autoZero"/>
        <c:auto val="1"/>
        <c:lblAlgn val="ctr"/>
        <c:lblOffset val="100"/>
        <c:noMultiLvlLbl val="0"/>
      </c:catAx>
      <c:valAx>
        <c:axId val="81272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27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CEE-D4FD-4596-B9EC-3C119594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C7B-4969-4CC7-A8E0-0D4B6761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C8D-2C9F-4897-BF8D-F17913E1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19E-355E-4391-9EF1-407E5BB9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343-3422-41DD-818E-835163E8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164-F32E-4BFE-9DB7-7860EE11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E6D-25CE-4642-85A5-EE2BC24C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AB8-29D5-44FE-995A-1867C31F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3D2-E335-4C6C-8248-92C42312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1DD-FC99-4DA9-A0A5-89F3414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083-AED2-4E1E-9CCE-8E47240D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3E3-4E25-408E-8C6B-9766D5A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5D2AD-2DE6-4ED2-A924-18AF16EDE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