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91078"/>
        <c:axId val="17029423"/>
      </c:barChart>
      <c:catAx>
        <c:axId val="82291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29423"/>
        <c:crosses val="autoZero"/>
        <c:auto val="1"/>
        <c:lblAlgn val="ctr"/>
        <c:lblOffset val="100"/>
        <c:noMultiLvlLbl val="0"/>
      </c:catAx>
      <c:valAx>
        <c:axId val="17029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91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397-4824-440B-88ED-355B8692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326-1147-4B1B-9314-E15EDFF2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E0A-D2C5-483C-884A-0E08A76E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9FD-C1EA-4D99-93FC-F7CFE86D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478-76E8-4EB8-9261-47998167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735-ADF2-4D49-A648-9D8DCE1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966-890B-4139-8ECF-C08797B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002-C0F1-461D-98E0-A707621D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5AB-DB51-459A-A097-8510D12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130-A042-4A8C-BFFC-12B089A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B10-6FA7-44A8-B114-F8D87F9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859-B7EC-40D9-B792-09BFA67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2DAFA-25D9-4A2B-A7A1-24FD4CC4C2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