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85329"/>
        <c:axId val="62138108"/>
      </c:barChart>
      <c:catAx>
        <c:axId val="79085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38108"/>
        <c:crosses val="autoZero"/>
        <c:auto val="1"/>
        <c:lblAlgn val="ctr"/>
        <c:lblOffset val="100"/>
        <c:noMultiLvlLbl val="0"/>
      </c:catAx>
      <c:valAx>
        <c:axId val="62138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5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F28-796D-4764-A4F3-F8CBE3D7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370-EDB5-4805-8A20-0FD0F63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E9B-997B-428C-9F55-5DC24682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298-A727-4EC2-B79F-031A941E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9A1-1DD0-4B7C-A969-39660DF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2A2-E75F-4948-B441-402A2702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093-4642-4768-AC41-95CDB9F7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BFF-7739-4B15-BEF7-04892A7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FAA-F89E-443D-ABDB-769A798E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D4C-8F22-4CDD-871D-03DF89F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B94-EC01-4A6E-B445-FFD105E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23B-ADAE-4214-A205-11DC9EB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D1F5A-DE35-4599-989E-E118D59F6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