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09003"/>
        <c:axId val="59235131"/>
      </c:barChart>
      <c:catAx>
        <c:axId val="81109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35131"/>
        <c:crosses val="autoZero"/>
        <c:auto val="1"/>
        <c:lblAlgn val="ctr"/>
        <c:lblOffset val="100"/>
        <c:noMultiLvlLbl val="0"/>
      </c:catAx>
      <c:valAx>
        <c:axId val="59235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09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139E-B025-48A7-96E1-02E283FB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E61-C140-4729-B4AE-CE23CE6D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027-3911-4F98-967F-BAC58DDE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974-B561-4894-BCF0-B7CDC8D3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584-8C6F-4582-A9B6-A00B05FB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008-6C97-4577-98E7-0E22447F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360-425B-4C50-B306-C5423A43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7BC-37F6-4D32-AF14-3D14CE8F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B5C-F721-4E90-9C02-2C7E9A9C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E65-D77A-4D45-8F33-B6D45442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336-C038-4DD4-AF45-772D6830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C72-5FFE-4D2E-9A5B-259B42EC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8DD1A-9613-4878-82D2-BDC8081A05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