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805073"/>
        <c:axId val="11009796"/>
      </c:barChart>
      <c:catAx>
        <c:axId val="698050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09796"/>
        <c:crosses val="autoZero"/>
        <c:auto val="1"/>
        <c:lblAlgn val="ctr"/>
        <c:lblOffset val="100"/>
        <c:noMultiLvlLbl val="0"/>
      </c:catAx>
      <c:valAx>
        <c:axId val="110097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050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6FF8-3C96-4A60-9292-9A5F71F0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8540-B6DF-41CC-8913-98A47B51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7C47-B30D-4D47-A916-803D60CC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9A49-62E3-4E15-89A1-BB18F5D9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43DE-2376-4865-B26B-DF8ABA1D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A4FB-E889-4523-AF1D-9992F36D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8917-3D97-4A94-AF9E-22072FFA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4646-EF14-42E0-92CB-6AC7FCF8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CAAE-F932-40EA-82A6-075D55FA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EF8D-F5FF-49FC-BE15-FBF43E6C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8CA3-8380-4B4C-9BE9-0436615B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3BAD-E2F1-4C56-8927-42DB2597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90939-7ED2-4E84-BC47-4C26EE868C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