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319032"/>
        <c:axId val="32441620"/>
      </c:barChart>
      <c:catAx>
        <c:axId val="543190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441620"/>
        <c:crosses val="autoZero"/>
        <c:auto val="1"/>
        <c:lblAlgn val="ctr"/>
        <c:lblOffset val="100"/>
        <c:noMultiLvlLbl val="0"/>
      </c:catAx>
      <c:valAx>
        <c:axId val="324416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3190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5261-55B0-4952-8321-A88C6534C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F1B0-6385-47B0-B0FD-53ADD07DC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DEB1-B8FB-4052-8AC2-1F4BAA71A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E9BD-913E-487B-BF6C-1D7C4C1E6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2411-89D2-4602-9CD9-BA7BBE4C9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4023-2756-4DE1-86AF-45FFD8CC8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83C3-C4B8-4568-BF00-8DE1B6A69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E2CC-CC1D-43B6-A1E2-F6D84183B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CBDD-E51C-43AF-AF57-26CCA065B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2BCB-1121-451D-B3DD-04818BFE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8A26-EE2F-4AFC-957F-BE293D8D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0941-479A-41AB-8C70-9F7EDB0B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14CC8D-2F9A-42C9-B25F-B5C2F9B212E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