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11879"/>
        <c:axId val="46030941"/>
      </c:barChart>
      <c:catAx>
        <c:axId val="41011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30941"/>
        <c:crosses val="autoZero"/>
        <c:auto val="1"/>
        <c:lblAlgn val="ctr"/>
        <c:lblOffset val="100"/>
        <c:noMultiLvlLbl val="0"/>
      </c:catAx>
      <c:valAx>
        <c:axId val="46030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11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062-A603-4FB7-B990-587634B3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F8C-EF57-49CB-87F9-C26FB2DB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086-BDA2-4ECA-B535-41EB06D4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694-E7E6-4E82-8501-E65A4FEB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FB3-99F7-4A2D-9582-50D8EFA8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9A0-6721-4CB5-BA05-51F6B78A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0B6-F104-4C0E-B7DD-9A41DA58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8E4-026A-4D14-8594-AF1D699E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025-0B31-4493-A8BB-8BAD9D22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350-5E05-441D-83E3-9CB61191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CF0-6993-48AC-AA70-0B2DEF55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09A-411C-4488-A6E2-A1144D34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2C71D-9065-4E69-9972-DAC21C453C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