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27342"/>
        <c:axId val="44344413"/>
      </c:barChart>
      <c:catAx>
        <c:axId val="10427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44413"/>
        <c:crosses val="autoZero"/>
        <c:auto val="1"/>
        <c:lblAlgn val="ctr"/>
        <c:lblOffset val="100"/>
        <c:noMultiLvlLbl val="0"/>
      </c:catAx>
      <c:valAx>
        <c:axId val="44344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27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5C6-5B25-4347-8540-471F4F06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B3B-EB0A-4292-860C-2B43F920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F4B-E66C-4B88-8916-02A075D7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269-DCAA-4252-B638-D39CF329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026-CCD7-4E55-97B1-8829A9B7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D25-EAE9-416A-9C38-3D2D6F7E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3B1-FB5E-4384-BDAD-1DC67C80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836-BF1B-40F9-9D7B-29434C54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978-7042-4FD2-9CFC-25E2EDE7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58C-8F41-4978-9146-6405752A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66B-249D-40AE-B6FD-735FA1F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31D-7B55-44C6-91F8-2F919BC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6E397-36CB-4291-921A-D6AFF63E05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